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8C66-402F-4CD2-AC7C-627D6F24A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8253-990E-4C3E-831D-09A9370EF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F20A-97F6-4337-82FF-268A57E1F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07FA-3FF3-434F-B3B8-47406D8E3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B17A-84C4-4485-931D-7AFDB66FB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39AE-8D4C-4F86-B2D2-AE93113FC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8509-AFB9-405B-932C-13EA67D42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FBD0-FCB5-41E0-9A98-E65E565E8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B785-2739-4C6E-B9A6-A102BE646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9A69-66C5-48FF-93DC-7EA092708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BE7D-AF03-4093-B6BE-71943828A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9CE4-BDD5-485C-B371-1BDDDB83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904F8-FF50-43BB-BD87-13DCE6A76C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Arial"/>
              </a:rPr>
              <a:t>Science 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Welcome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room Expec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resp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prepa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quality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se 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and use numbers cor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onventions (spelling, punctuation, sentences, paragraph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ebook Guid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MCj04338680000[1]"/>
          <p:cNvPicPr/>
          <p:nvPr/>
        </p:nvPicPr>
        <p:blipFill>
          <a:blip r:embed="rId1"/>
          <a:stretch/>
        </p:blipFill>
        <p:spPr>
          <a:xfrm>
            <a:off x="3886200" y="990720"/>
            <a:ext cx="510552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quired Suppl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green duo-tangs (Notebook, Journal, Lab Noteboo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harpened penc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cil cray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cil sharpe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4 Uni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xtures and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th’s Cr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oday’s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 and use class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name the parts of “Scientific Inquir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plan a an activity using “Scientific Inquir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oday’s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up note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 parts of “Scientific Inquir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 a scientific inquiry activ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activity and think about th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5T19:38:08Z</dcterms:created>
  <dc:creator>nbdoe</dc:creator>
  <dc:description/>
  <dc:language>en-US</dc:language>
  <cp:lastModifiedBy>ladmin</cp:lastModifiedBy>
  <dcterms:modified xsi:type="dcterms:W3CDTF">2015-01-26T01:21:09Z</dcterms:modified>
  <cp:revision>24</cp:revision>
  <dc:subject/>
  <dc:title>Slide 1</dc:title>
</cp:coreProperties>
</file>